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3B8D-84C7-4FC2-B447-3B56876C1D84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2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E62E-EB11-41E0-B61A-1D611210B130}" type="slidenum">
              <a:rPr b="0" lang="zh-TW" sz="12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9F7-DD54-4276-B596-226E4FC0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DB9-7D78-4E97-B9F3-44B4E57B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813-4E9E-49D4-B457-A632E155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887-8124-4F23-9246-B059CF2F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8388-33DC-4512-B3A6-348F34D3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82AA-8996-4AEE-9027-5D8D4DAB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C189-FF2E-462C-B2D8-1F98E696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98FA-B0D3-421C-8E18-B54D1739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B8F6-9ED3-4D42-8DF7-1BBA940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9011-633E-449E-A46B-0926EFED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7520-3DBF-4E00-AC6F-527DBB4C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B36-E59F-4D93-BB89-094F5557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95D4-7233-46F6-AD7B-A3B54E1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6B0F-5FBB-404F-B8F3-ACD36D59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1F1D-10D8-42DB-9389-4704A187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8FB1-AAF8-4947-B8EB-68B1A02D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0825-DFFC-4607-903E-ADAECD3E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9D3B-74B1-4CFA-8414-78B204E7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915D-C503-4CEC-8DF4-A40D4EF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C18C-17FB-4558-B92A-0AB8C11E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257E-CC68-46C4-B13C-BD5BA9F0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63E4-AB89-4E33-B8E7-F4D1A4A8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70E-4626-4C64-BC03-C125465B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0836-D273-4C94-807A-1B48349D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BD5B-1133-4FB1-B5EA-8BDAD590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B1E6-A88C-4E8C-B908-D86CDC2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077F-B3D9-4030-A1BA-261237DE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6A08-3013-4B3A-9DD5-EFE9664E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B302-2FB5-49C8-ADC5-5E6ABCB4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76FAB-CF8E-4F10-92FA-D03AA8CB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2DE-3D50-4A41-9649-303A7DBF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FA3-E651-4463-80B0-286F643B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BAC-4298-408D-86D4-30016BA8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5DC-73FB-4DB9-A0F1-44E84AC7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309-01B9-465D-9E80-2B26146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6A2-2B33-46F5-BCF1-61FDF1F4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80808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D5D6-0463-4DB1-88C1-D424A25EB5EA}" type="datetime">
              <a:rPr b="0" lang="zh-TW" sz="1000" spc="-1" strike="noStrike">
                <a:solidFill>
                  <a:srgbClr val="808080"/>
                </a:solidFill>
                <a:latin typeface="Times New Roman"/>
                <a:ea typeface="新細明體"/>
              </a:rPr>
              <a:t>115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C0E6-1819-449B-A120-3C56C762F45E}" type="slidenum">
              <a:rPr b="0" lang="en-US" sz="1000" spc="-1" strike="noStrike">
                <a:solidFill>
                  <a:srgbClr val="80808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27BE-2028-483B-8802-1127F1739D7E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89E7-2FAD-4EE0-B1E9-16A2E7F5F06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7625-03E5-45DE-AA00-91EA03E26CCC}" type="datetime">
              <a:rPr b="0" lang="zh-TW" sz="1400" spc="-1" strike="noStrike">
                <a:solidFill>
                  <a:srgbClr val="007a77"/>
                </a:solidFill>
                <a:latin typeface="Arial"/>
                <a:ea typeface="新細明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1E93-7067-42A7-86B0-F735604B36E7}" type="slidenum">
              <a:rPr b="0" lang="zh-TW" sz="1400" spc="-1" strike="noStrike">
                <a:solidFill>
                  <a:srgbClr val="007a77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sysu.edu.tw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投影片編號版面配置區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9AAA-2F7D-4EC3-BB38-E5A22E6187D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cc"/>
                </a:solidFill>
                <a:latin typeface="標楷體"/>
                <a:ea typeface="標楷體"/>
              </a:rPr>
              <a:t>財物管理及</a:t>
            </a:r>
            <a:br>
              <a:rPr sz="5400"/>
            </a:br>
            <a:r>
              <a:rPr b="1" lang="zh-TW" sz="5400" spc="-1" strike="noStrike">
                <a:solidFill>
                  <a:srgbClr val="0000cc"/>
                </a:solidFill>
                <a:latin typeface="標楷體"/>
                <a:ea typeface="標楷體"/>
              </a:rPr>
              <a:t>經費結報注意事項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1000" y="5300640"/>
            <a:ext cx="66420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總務處保管組  吳鴻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201</a:t>
            </a:r>
            <a:r>
              <a:rPr b="1" lang="en-US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10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19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4" descr="國立中山大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57160"/>
            <a:ext cx="7292880" cy="843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4360" y="206208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d0d0d"/>
                </a:solidFill>
                <a:latin typeface="Times New Roman"/>
              </a:rPr>
              <a:t>強化內部控制措施宣導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A8A7-0688-4231-B13C-81B13A0AF306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六、單位財物如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已達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使用年限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不堪再使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時，應填具財物減損單送保管組，經陳報校長核定後，辦理財物報廢手續。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在未奉核定處理前，應妥善保管，不得隨意廢棄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七、財物經核定報廢後，申請報廢財物之單位須將核准之報廢單及報廢品送保管組倉庫。經除帳後，廢品變賣依行政院頒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「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各機關奉准報廢財產之變賣及估價作業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程序」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辦理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0705-9AA2-4875-9B01-4AEE53FC387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八、保管組應於每年初，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擬訂盤點計劃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實施財物盤點，各單位須配合先行對所屬財物實施盤點，並將財物盤點結果紀錄表送回保管組。全校盤點結束後，將盤點結果及建議事項彙整，以書面陳報校長後通知各單位檢討改進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標楷體"/>
                <a:ea typeface="標楷體"/>
              </a:rPr>
              <a:t>※</a:t>
            </a:r>
            <a:r>
              <a:rPr b="1" lang="zh-TW" sz="3200" spc="-1" strike="noStrike">
                <a:solidFill>
                  <a:srgbClr val="3366ff"/>
                </a:solidFill>
                <a:latin typeface="標楷體"/>
                <a:ea typeface="標楷體"/>
              </a:rPr>
              <a:t>財物盤點發現部分缺失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單位初盤不落實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未粘貼標籤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保管人不符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存置地點不符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財物無廠牌規格型號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財產攜出校外（實驗或維修）未登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B693-EA93-4901-9D7C-4D22C3690CD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、國有財產法第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28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條：主管機關或管理機關對於公用財產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不得為任何處分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或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擅為收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已列帳財物；以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貼補方式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更換機型等，屬「處分」，依上開國有財產法規定，不得為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5555"/>
                </a:solidFill>
                <a:latin typeface="標楷體"/>
                <a:ea typeface="標楷體"/>
              </a:rPr>
              <a:t>貳、其他應注意事項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86F9-48CC-4A37-987C-248561F3E5F1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686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二、整批購買，每件單價如未超過新台幣</a:t>
            </a:r>
            <a:r>
              <a:rPr b="1" lang="zh-TW" sz="28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一萬元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者，不得以「財產」列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資本門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：財產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設備費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有</a:t>
            </a:r>
            <a:r>
              <a:rPr b="1" lang="zh-TW" sz="2800" spc="-1" strike="noStrike">
                <a:solidFill>
                  <a:srgbClr val="ff5555"/>
                </a:solidFill>
                <a:latin typeface="標楷體"/>
                <a:ea typeface="標楷體"/>
              </a:rPr>
              <a:t>執行率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及</a:t>
            </a:r>
            <a:r>
              <a:rPr b="1" lang="zh-TW" sz="2800" spc="-1" strike="noStrike">
                <a:solidFill>
                  <a:srgbClr val="ff5555"/>
                </a:solidFill>
                <a:latin typeface="標楷體"/>
                <a:ea typeface="標楷體"/>
              </a:rPr>
              <a:t>攤銷折舊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問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冷氣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9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+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按裝施工管線費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=11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電腦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9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+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螢幕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4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=13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經常門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：非消耗品、耗材、維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僅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電腦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9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僅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螢幕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4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A93-9613-4417-A15D-E4A69270AB4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三、各單位接受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財產捐贈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受贈單位簽請學校同意（檢附捐贈機構同意函） → 會簽保管組、會計室、秘書室後 → 保管組函陳報教育部 → 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教育部層轉財政部轉行政院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→ 回函指定本校為管理機關 → 財產保管單位再依函示填財產增加單 → 入帳管理（入本校產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4720-B4EE-4368-B2D3-A7B80E482C7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四、各單位財物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欲贈與校外機構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須經簽文加會相關單位（保管組、會計室），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經校長核准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後，並依規定程序點交 → 對方收受文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五、財物的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撥出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撥入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提供校外使（借）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或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其他異動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情形，請先通知保管組並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經校長核准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始可同意辦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DC1A-2C59-4D2D-AD77-040854D2465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六、財物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遭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處理程序：（財物如需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攜出校外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應先經報備核准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保留現場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並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通知校警隊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如有保險聯絡保險公司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 →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失竊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現場拍照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遭破壞的部分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 → 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報案後索取三聯單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→ 填報「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財物失竊報告單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」→ 保管組陳報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教育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陳轉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審計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函請同意提前報廢 → 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審計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審核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准予備查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/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或賠償及追究責任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保管人有無「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盡到善良管理人應有之注意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BB40-9F10-4358-9028-6D3DA1ECA0AB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七、軟體（屬無形資產），採購金額在新臺幣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壹萬元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請填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【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財產增加單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】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若隨同硬體設備購入之系統軟體，則併入硬體成本內。金額在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參千元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之案件，請填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【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非消耗品增加單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】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若隨同硬體設備購入之系統軟體，則併入硬體成本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719F-0BCD-4143-A890-6CF1FF33E20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八、屬於電腦升級之採購，金額在新臺幣</a:t>
            </a:r>
            <a:r>
              <a:rPr b="1" lang="zh-TW" sz="36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壹萬元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以上之案件，財產增加單內補填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財產編號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、註明原財產功能擴充或升級等字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3A5-FC9D-41CF-B054-A08FC1F5D8E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1680" y="1557000"/>
            <a:ext cx="8540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5555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財物管理規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5555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其他應注意事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31800" y="549360"/>
            <a:ext cx="631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900000" y="549000"/>
            <a:ext cx="68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5555"/>
                </a:solidFill>
                <a:latin typeface="標楷體"/>
                <a:ea typeface="標楷體"/>
              </a:rPr>
              <a:t>簡 報 大 綱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1CB4-793E-441B-BA66-0337D9A7D65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九、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財產增加單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及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非消耗品增加單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每一欄位務必詳填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尤其中文品名、廠牌、型號、規格、地點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…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等，以利辦理驗收、登帳及未來財產盤點。如採購項目多，為節省繕寫時間及避免造成錯誤，可將規格表影印縮小，貼在增加單上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   ◎</a:t>
            </a:r>
            <a:r>
              <a:rPr b="1" lang="zh-TW" sz="3200" spc="-1" strike="noStrike" u="sng">
                <a:solidFill>
                  <a:srgbClr val="008000"/>
                </a:solidFill>
                <a:uFillTx/>
                <a:latin typeface="Arial"/>
              </a:rPr>
              <a:t>財產卡（憑證）同身分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EBDD-4D1B-4D74-A906-ED014087EE26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、</a:t>
            </a:r>
            <a:r>
              <a:rPr b="1" lang="zh-TW" sz="36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動支經費申請單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未經核准請勿先行訂</a:t>
            </a:r>
            <a:r>
              <a:rPr b="1" lang="en-US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收</a:t>
            </a:r>
            <a:r>
              <a:rPr b="1" lang="en-US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貨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。廠商</a:t>
            </a:r>
            <a:r>
              <a:rPr b="1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尚未完成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交貨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時，請勿辦理結報。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Ex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財產入帳後又辦理退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D6F5-1135-4655-BB2F-99F575EC5A5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一、收銀機開立之統一發票，各單位結報時，請於發票上加註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物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（中文）之名稱，並簽名或蓋章。物品品名務必須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註明清單明細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含單價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俾利財物審核及財物登帳。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Ex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電腦耗材一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00BB-1E1E-4E61-89D4-AAB66651B57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二、各單位新購置之財物如屬維修、更換性質，請於「支出憑證單」用途欄，註明維修之該筆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財產編號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，俾便保管組查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8AA9-E074-4D58-B370-451400BD90A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三、如確屬耗材或易碎或使用一次即耗損或使用年限未達二年，又單價在三千元以上者，請於「支出憑證單」用途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欄註明原因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作為保管組審核依據，若未註明者，保管組將認定為財產或非消耗品，恐與實際未符。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Ex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註明：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---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耗材、消耗品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FF96-3B74-4046-9F25-4B27C5C3791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四、財物之編號及使用年限係依據行政院頒「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財物標準分類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」之規定辦理，各單位應依規定辦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五、財產及非消耗品之分類標準認定請洽保管組，至於「經常門」或「資本門」經費支用請洽會計室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C7C3-EF88-4DCA-8FA4-43E0EDF28B6E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六、為簡化結報作業流程，下列案件請與其他財物案件分開結報，可逕送總務處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毋須加會保管組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以縮短作業流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旅運費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─旅費、運費、車票費、出差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二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事務費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─影印、打字、郵費、租金、稅捐、油脂、食品、禮品、花籃、喜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輓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幛、餐費、沖洗照片、報費、廣告費、規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酬勞費等案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8A9-C9E0-4992-82E3-BC23A82DB5E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七、落實廢品入庫管制作業，請保管人於收到核准之「減損單」後，於指定期限內將廢品繳回入庫，減損單上會加註「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本減損單已列管，務請攜帶本單及可回收之廢品於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XX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月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XX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日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14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～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16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時點交入庫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廢品庫房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每月第一週週三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開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4021-961D-4817-8FDF-1F1C5A006FE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八、請參閱保管組新網頁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2010/8/1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更新，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法規、作業規範、表單、流程、</a:t>
            </a:r>
            <a:r>
              <a:rPr b="1" lang="en-US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Q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＆</a:t>
            </a:r>
            <a:r>
              <a:rPr b="1" lang="en-US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A(38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項</a:t>
            </a:r>
            <a:r>
              <a:rPr b="1" lang="en-US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) 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場管會</a:t>
            </a: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職務宿舍</a:t>
            </a: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二手財產網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9EDE-7CD8-4F01-8735-8AC8148AC0E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7920" y="0"/>
            <a:ext cx="91724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2922-4CF4-4AA7-B158-A6ED07B20C6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、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財物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係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財產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及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物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之總稱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（本校財物管理要點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財產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包括土地、土地改良物、房屋建築及設備暨單價金額超過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一萬元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且使用年限在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二年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之機械及設備、交通及運輸設備、什項設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惟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圖書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典藏之分類圖書仍依有關規定辦理（圖書館法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   </a:t>
            </a:r>
            <a:r>
              <a:rPr b="1" lang="zh-TW" sz="3200" spc="-1" strike="noStrike" u="sng">
                <a:solidFill>
                  <a:srgbClr val="007a77"/>
                </a:solidFill>
                <a:uFillTx/>
                <a:latin typeface="Arial"/>
              </a:rPr>
              <a:t>◎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財物所有權屬中華民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5555"/>
                </a:solidFill>
                <a:latin typeface="Arial"/>
                <a:ea typeface="標楷體"/>
              </a:rPr>
              <a:t>壹、財物管理規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1A07-67EF-45F6-8030-685519D36EA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9966"/>
                </a:solidFill>
                <a:latin typeface="標楷體"/>
                <a:ea typeface="標楷體"/>
              </a:rPr>
              <a:t>簡報完畢 敬請指教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聯絡分機 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2370;237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0488-AA4A-4B23-81AD-C941AE2A7AF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二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物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指不屬於前述財產之設備、用具，其分類如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消耗用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指公用物品經使用後喪失其原有效能或使用價值者，如清潔用品、紙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非消耗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公用物品質料堅固，不易損耗者，即使用年限逹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二年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及單價金額在新臺幣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三千元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且未達一萬元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DDA0-C8DD-4651-9953-569D6108502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二、財物管理採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分層負責管理制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各單位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院、所、系、中心、處、館、室、組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等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應負責所使用財物之增置、登記、經管、養護、減損等相關事宜。保管組負責全校財物登記、管理及折舊攤提相關事宜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C8AD-FF94-4118-B3A5-B9918AC6EDB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三、「</a:t>
            </a:r>
            <a:r>
              <a:rPr b="1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保管人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」及「</a:t>
            </a:r>
            <a:r>
              <a:rPr b="1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使用人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」工作職責如下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應確實負責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點收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新購財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核對無誤後將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標籤黏貼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於財物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所保管財物資料須與保管組系統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資料相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財物使用前應先向單位財物管理人辦理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借用手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5.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妥善保管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及養護所保管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借用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之財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6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損壞或遺失所保管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借用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之財物，應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負賠償責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7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配合單位財物管理人辦理不定期盤點及年度總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盤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8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異動或離職前財物之移交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FB8C-543C-4A26-A0D5-E5496DA8212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「</a:t>
            </a:r>
            <a:r>
              <a:rPr b="1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保管人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」及「</a:t>
            </a:r>
            <a:r>
              <a:rPr b="1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使用人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」對於財物均應善盡保管之責，未經核准不得私自移轉或借撥</a:t>
            </a:r>
            <a:r>
              <a:rPr b="1" lang="en-US" sz="3600" spc="-1" strike="noStrike">
                <a:solidFill>
                  <a:srgbClr val="008000"/>
                </a:solidFill>
                <a:latin typeface="標楷體"/>
                <a:ea typeface="標楷體"/>
              </a:rPr>
              <a:t>§7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538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如離退職時免辦「離職單手續單」者不得擔任財物「保管人」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7A27-1932-48C7-B588-0FC144A6393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四、離職、調職或退職者，應將所保管或使用之財物點交清楚，單位主管及單位財物管理人應確認完成移交手續，財物保管（使用）人於辦理離校手續時須經保管組核章。如有短缺而未賠償者，不發給離職證明文件，且追究賠償責任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0729-1998-44CD-9B7D-5953E09A101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五、財物保管（使用）人，對所經管之財物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應善盡保管之責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，未經核准，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不得私自移轉、借撥或另為處分收益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。財物若因災害、盜竊、不可抗力或其他意外事故，致毀損或滅失時，須依審計法施行細則規定，檢同有關證明文件，陳報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教育部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查明屬實，並轉請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審計機關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核准，核定已盡善良管理人應有之注意解除其責任者外，保管人、使用人應負連帶賠償責任 </a:t>
            </a:r>
            <a:r>
              <a:rPr b="1" lang="en-US" sz="3000" spc="-1" strike="noStrike">
                <a:solidFill>
                  <a:srgbClr val="008000"/>
                </a:solidFill>
                <a:latin typeface="標楷體"/>
                <a:ea typeface="標楷體"/>
              </a:rPr>
              <a:t>§12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2:59:26Z</dcterms:created>
  <dc:creator>user</dc:creator>
  <dc:description/>
  <cp:keywords/>
  <dc:language>en-US</dc:language>
  <cp:lastModifiedBy>user</cp:lastModifiedBy>
  <dcterms:modified xsi:type="dcterms:W3CDTF">2011-10-18T09:33:56Z</dcterms:modified>
  <cp:revision>90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28</vt:lpwstr>
  </property>
</Properties>
</file>