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CA57-BC10-4213-8C8A-685020D4B8AF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新細明體"/>
            </a:endParaRPr>
          </a:p>
        </p:txBody>
      </p:sp>
      <p:sp>
        <p:nvSpPr>
          <p:cNvPr id="22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3C0-A26C-4A48-B389-6E7983E7A6F9}" type="slidenum">
              <a:rPr b="0" lang="zh-TW" sz="1200" spc="-1" strike="noStrike">
                <a:solidFill>
                  <a:srgbClr val="000000"/>
                </a:solidFill>
                <a:latin typeface="Century Gothic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6DF-5FC9-4942-9542-81C73966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1EBF-DE56-4758-B5AA-C9A4EFB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828-90B7-430F-BC8A-91AA9E16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628-B75A-4B54-9787-12676617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008-7E1C-4A0B-A992-07428D23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414E-B679-44C0-9448-F0BFDCB1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EDC3-BDA2-443C-939C-148544D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6772-79CC-4A64-9F68-5B015BB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97C4-2A3E-472F-9D67-44308D9A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82A4-0775-4A29-9D45-94890EC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F5B-0119-454E-83E5-8DA6BEA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36D-BB24-4BBA-887F-B2C46653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9DA4-D5C6-4333-9F85-1B85C9C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5D6A-6D6E-4B5E-8D4F-96792E22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AC90-FE85-47C6-B34F-0F80D10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2B5F-ABB2-4F85-9C70-5554D525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670-4AAD-4ACE-8393-9613B917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74EA-FAD0-45A4-A6A8-5CB289C1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C3C3-9995-4DAD-959D-2A22ABB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4439-E177-44E2-BA50-48E0D75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E6F4-2C49-4948-AE8E-FF0F66C5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DA82-3D8F-4CAD-82A4-47DA1BED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5C97-4A1B-4989-8EFA-4C41CB47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AAF5-DF21-4638-95C2-53E1F7B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BCEB-8F41-4DBC-9D8F-87AB7B3B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1D8B-A762-4D36-A8DD-5706F345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B238-A0B2-46A6-981D-486E522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C048-039B-4BDA-A187-2FD8AC9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23F5-7179-4DB8-A7B6-8CAB4957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5A38-AD5F-43DA-923E-E94CD4F5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ADD-6611-4DA9-8DA2-C609BC0F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427-FB98-4897-A69E-0E39106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442-CEE9-449A-A966-B120962F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F8C-2C25-4782-8FB7-C737F22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E1F-6A23-434B-9F04-5A4F398C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F40-21D2-493F-9174-59524FF7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89EB-3205-4EE5-A7CA-7657A24658B6}" type="datetime">
              <a:rPr b="0" lang="zh-TW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115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D578-B4B2-49B8-A712-5F7E4E1A7BC2}" type="slidenum">
              <a:rPr b="0" lang="en-US" sz="1000" spc="-1" strike="noStrike">
                <a:solidFill>
                  <a:srgbClr val="80808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46A-5E8B-4DCF-B1FE-6DCF3200A1FD}" type="datetime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FB6-918B-43A5-AB75-9FD8D57DC0C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2DA4-EEFA-4564-93BC-853AB01BADFF}" type="datetime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2666-D2B5-4D56-9762-66C07004699D}" type="slidenum">
              <a:rPr b="0" lang="zh-TW" sz="1400" spc="-1" strike="noStrike">
                <a:solidFill>
                  <a:srgbClr val="007a77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sysu.edu.tw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投影片編號版面配置區 3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6EA-FDB1-48F9-952C-456B32CBA818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14172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財物管理及</a:t>
            </a:r>
            <a:br>
              <a:rPr sz="5400"/>
            </a:br>
            <a:r>
              <a:rPr b="1" lang="zh-TW" sz="5400" spc="-1" strike="noStrike">
                <a:solidFill>
                  <a:srgbClr val="0000cc"/>
                </a:solidFill>
                <a:latin typeface="標楷體"/>
                <a:ea typeface="標楷體"/>
              </a:rPr>
              <a:t>經費結報注意事項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51000" y="5300640"/>
            <a:ext cx="66420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總務處保管組  吳鴻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201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0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19</a:t>
            </a:r>
            <a:r>
              <a:rPr b="1" lang="zh-TW" sz="2800" spc="-1" strike="noStrike">
                <a:solidFill>
                  <a:srgbClr val="363636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8" name="Picture 4" descr="國立中山大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857160"/>
            <a:ext cx="7292880" cy="8431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4360" y="206208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d0d0d"/>
                </a:solidFill>
                <a:latin typeface="Times New Roman"/>
              </a:rPr>
              <a:t>強化內部控制措施宣導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865-0ACB-403F-A898-AAB7CFB1782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單位財物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已達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使用年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不堪再使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時，應填具財物減損單送保管組，經陳報校長核定後，辦理財物報廢手續。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在未奉核定處理前，應妥善保管，不得隨意廢棄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財物經核定報廢後，申請報廢財物之單位須將核准之報廢單及報廢品送保管組倉庫。經除帳後，廢品變賣依行政院頒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「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各機關奉准報廢財產之變賣及估價作業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程序」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辦理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68D-7E90-4C59-AF24-631F1C86B2A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八、保管組應於每年初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擬訂盤點計劃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實施財物盤點，各單位須配合先行對所屬財物實施盤點，並將財物盤點結果紀錄表送回保管組。全校盤點結束後，將盤點結果及建議事項彙整，以書面陳報校長後通知各單位檢討改進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※</a:t>
            </a:r>
            <a:r>
              <a:rPr b="1" lang="zh-TW" sz="3200" spc="-1" strike="noStrike">
                <a:solidFill>
                  <a:srgbClr val="3366ff"/>
                </a:solidFill>
                <a:latin typeface="標楷體"/>
                <a:ea typeface="標楷體"/>
              </a:rPr>
              <a:t>財物盤點發現部分缺失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單位初盤不落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未粘貼標籤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保管人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存置地點不符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物無廠牌規格型號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99"/>
                </a:solidFill>
                <a:latin typeface="標楷體"/>
                <a:ea typeface="標楷體"/>
              </a:rPr>
              <a:t>財產攜出校外（實驗或維修）未登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07D6-9349-498A-8332-476B5605834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國有財產法第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8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條：主管機關或管理機關對於公用財產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不得為任何處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擅為收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已列帳財物；以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貼補方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更換機型等，屬「處分」，依上開國有財產法規定，不得為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標楷體"/>
                <a:ea typeface="標楷體"/>
              </a:rPr>
              <a:t>貳、其他應注意事項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D95-B689-4B61-B14C-ED670E655A3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686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二、整批購買，每件單價如未超過新台幣</a:t>
            </a: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者，不得以「財產」列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資本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財產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設備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有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執行率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ff5555"/>
                </a:solidFill>
                <a:latin typeface="標楷體"/>
                <a:ea typeface="標楷體"/>
              </a:rPr>
              <a:t>攤銷折舊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問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冷氣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按裝施工管線費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1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+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=13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經常門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：非消耗品、耗材、維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電腦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9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436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       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例如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: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僅動支</a:t>
            </a:r>
            <a:r>
              <a:rPr b="1" lang="zh-TW" sz="28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螢幕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,000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656-7D8B-4AB6-B82F-C810C84B5EF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、各單位接受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捐贈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受贈單位簽請學校同意（檢附捐贈機構同意函） → 會簽保管組、會計室、秘書室後 → 保管組函陳報教育部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層轉財政部轉行政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回函指定本校為管理機關 → 財產保管單位再依函示填財產增加單 → 入帳管理（入本校產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A00E-B336-4AFD-83B8-4F2896B54C2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各單位財物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欲贈與校外機構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須經簽文加會相關單位（保管組、會計室）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後，並依規定程序點交 → 對方收受文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的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出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撥入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提供校外使（借）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或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其他異動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情形，請先通知保管組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經校長核准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始可同意辦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EF8-E2C9-46FD-AC64-53FDAB29E97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六、財物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遭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處理程序：（財物如需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攜出校外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應先經報備核准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保留現場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並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通知校警隊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如有保險聯絡保險公司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失竊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現場拍照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遭破壞的部分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→ 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報案後索取三聯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→ 填報「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財物失竊報告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→ 保管組陳報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教育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陳轉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函請同意提前報廢 → 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審計部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審核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准予備查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/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或賠償及追究責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保管人有無「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盡到善良管理人應有之注意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40A-156C-4EBE-B292-277F96A035E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七、軟體（屬無形資產），採購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財產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。金額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參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案件，請填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【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非消耗品增加單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】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若隨同硬體設備購入之系統軟體，則併入硬體成本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AAA9-6DFB-48F4-893F-90209F99C4F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八、屬於電腦升級之採購，金額在新臺幣</a:t>
            </a:r>
            <a:r>
              <a:rPr b="1" lang="zh-TW" sz="36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壹萬元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以上之案件，財產增加單內補填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、註明原財產功能擴充或升級等字樣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7B9B-04A7-4FBF-81A8-8346B17B83AA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1680" y="1557000"/>
            <a:ext cx="8540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物管理規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5555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其他應注意事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31800" y="549360"/>
            <a:ext cx="631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900000" y="549000"/>
            <a:ext cx="6826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5555"/>
                </a:solidFill>
                <a:latin typeface="標楷體"/>
                <a:ea typeface="標楷體"/>
              </a:rPr>
              <a:t>簡 報 大 綱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F835-85DC-4F1C-A5F8-4E87857C1A0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九、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增加單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非消耗品增加單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每一欄位務必詳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尤其中文品名、廠牌、型號、規格、地點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…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，以利辦理驗收、登帳及未來財產盤點。如採購項目多，為節省繕寫時間及避免造成錯誤，可將規格表影印縮小，貼在增加單上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   ◎</a:t>
            </a:r>
            <a:r>
              <a:rPr b="1" lang="zh-TW" sz="3200" spc="-1" strike="noStrike" u="sng">
                <a:solidFill>
                  <a:srgbClr val="008000"/>
                </a:solidFill>
                <a:uFillTx/>
                <a:latin typeface="Arial"/>
              </a:rPr>
              <a:t>財產卡（憑證）同身分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5B16-4032-45AD-8791-181376EF10F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、</a:t>
            </a:r>
            <a:r>
              <a:rPr b="1" lang="zh-TW" sz="36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動支經費申請單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未經核准請勿先行訂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(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收</a:t>
            </a:r>
            <a:r>
              <a:rPr b="1" lang="en-US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)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。廠商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尚未完成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交貨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時，請勿辦理結報。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財產入帳後又辦理退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B4BD-82F4-444A-BD93-3572E15B424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一、收銀機開立之統一發票，各單位結報時，請於發票上加註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（中文）之名稱，並簽名或蓋章。物品品名務必須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註明清單明細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含單價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俾利財物審核及財物登帳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電腦耗材一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E1C-B609-4CFE-B2E2-6F8D260A44C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二、各單位新購置之財物如屬維修、更換性質，請於「支出憑證單」用途欄，註明維修之該筆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產編號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，俾便保管組查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6B59-B40B-419C-9AD4-89C0060FFD1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三、如確屬耗材或易碎或使用一次即耗損或使用年限未達二年，又單價在三千元以上者，請於「支出憑證單」用途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欄註明原因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作為保管組審核依據，若未註明者，保管組將認定為財產或非消耗品，恐與實際未符。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Ex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註明：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---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耗材、消耗品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3CAC-5316-4D99-BD00-934687F359D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四、財物之編號及使用年限係依據行政院頒「</a:t>
            </a:r>
            <a:r>
              <a:rPr b="1" lang="zh-TW" sz="3600" spc="-1" strike="noStrike">
                <a:solidFill>
                  <a:srgbClr val="ff5555"/>
                </a:solidFill>
                <a:latin typeface="標楷體"/>
                <a:ea typeface="標楷體"/>
              </a:rPr>
              <a:t>財物標準分類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之規定辦理，各單位應依規定辦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五、財產及非消耗品之分類標準認定請洽保管組，至於「經常門」或「資本門」經費支用請洽會計室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5D01-E5D9-4C59-A348-7DC72EC71C6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六、為簡化結報作業流程，下列案件請與其他財物案件分開結報，可逕送總務處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毋須加會保管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以縮短作業流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旅運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旅費、運費、車票費、出差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事務費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─影印、打字、郵費、租金、稅捐、油脂、食品、禮品、花籃、喜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輓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幛、餐費、沖洗照片、報費、廣告費、規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酬勞費等案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EB64-A3A6-499C-A7A2-5CC7CB791A6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十七、落實廢品入庫管制作業，請保管人於收到核准之「減損單」後，於指定期限內將廢品繳回入庫，減損單上會加註「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本減損單已列管，務請攜帶本單及可回收之廢品於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月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XX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日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4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～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16</a:t>
            </a:r>
            <a:r>
              <a:rPr b="1" lang="zh-TW" sz="36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時點交入庫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廢品庫房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每月第一週週三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開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2227-5671-4E6C-8D5C-B34F1D4E2E0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十八、請參閱保管組新網頁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2010/8/1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更新，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法規、作業規範、表單、流程、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Q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＆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A(38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項</a:t>
            </a:r>
            <a:r>
              <a:rPr b="1" lang="en-US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) 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  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場管會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職務宿舍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TW" sz="3600" spc="-1" strike="noStrike">
                <a:solidFill>
                  <a:srgbClr val="007a77"/>
                </a:solidFill>
                <a:latin typeface="標楷體"/>
                <a:ea typeface="標楷體"/>
              </a:rPr>
              <a:t>二手財產網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AF01-2675-4F00-BD8D-55AA11DB45E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920" y="0"/>
            <a:ext cx="9172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5DD-0370-40FA-9C79-5ECE08FF0A93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財物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，係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總稱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2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TW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（本校財物管理要點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財產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包括土地、土地改良物、房屋建築及設備暨單價金額超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一萬元</a:t>
            </a:r>
            <a:r>
              <a:rPr b="1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使用年限在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之機械及設備、交通及運輸設備、什項設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惟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圖書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典藏之分類圖書仍依有關規定辦理（圖書館法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712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   </a:t>
            </a:r>
            <a:r>
              <a:rPr b="1" lang="zh-TW" sz="3200" spc="-1" strike="noStrike" u="sng">
                <a:solidFill>
                  <a:srgbClr val="007a77"/>
                </a:solidFill>
                <a:uFillTx/>
                <a:latin typeface="Arial"/>
              </a:rPr>
              <a:t>◎</a:t>
            </a:r>
            <a:r>
              <a:rPr b="1" lang="zh-TW" sz="3200" spc="-1" strike="noStrike" u="sng">
                <a:solidFill>
                  <a:srgbClr val="ff3300"/>
                </a:solidFill>
                <a:uFillTx/>
                <a:latin typeface="標楷體"/>
                <a:ea typeface="標楷體"/>
              </a:rPr>
              <a:t>財物所有權屬中華民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555"/>
                </a:solidFill>
                <a:latin typeface="Arial"/>
                <a:ea typeface="標楷體"/>
              </a:rPr>
              <a:t>壹、財物管理規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CF17-6F00-4575-9690-DFD76D1EAC6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9966"/>
                </a:solidFill>
                <a:latin typeface="標楷體"/>
                <a:ea typeface="標楷體"/>
              </a:rPr>
              <a:t>簡報完畢 敬請指教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聯絡分機 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370;237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329A-0CB5-489B-99A0-A2FDA076377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 u="sng">
                <a:solidFill>
                  <a:srgbClr val="000099"/>
                </a:solidFill>
                <a:uFillTx/>
                <a:latin typeface="標楷體"/>
                <a:ea typeface="標楷體"/>
              </a:rPr>
              <a:t>物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不屬於前述財產之設備、用具，其分類如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消耗用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指公用物品經使用後喪失其原有效能或使用價值者，如清潔用品、紙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非消耗品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：公用物品質料堅固，不易損耗者，即使用年限逹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二年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及單價金額在新臺幣</a:t>
            </a:r>
            <a:r>
              <a:rPr b="1" lang="zh-TW" sz="3200" spc="-1" strike="noStrike" u="sng">
                <a:solidFill>
                  <a:srgbClr val="ff5555"/>
                </a:solidFill>
                <a:uFillTx/>
                <a:latin typeface="標楷體"/>
                <a:ea typeface="標楷體"/>
              </a:rPr>
              <a:t>三千元以上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且未達一萬元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E8C-082F-484D-8C7F-85841ED73C3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二、財物管理採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分層負責管理制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。各單位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5555"/>
                </a:solidFill>
                <a:latin typeface="標楷體"/>
                <a:ea typeface="標楷體"/>
              </a:rPr>
              <a:t>院、所、系、中心、處、館、室、組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等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) </a:t>
            </a: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應負責所使用財物之增置、登記、經管、養護、減損等相關事宜。保管組負責全校財物登記、管理及折舊攤提相關事宜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DCC8-4ABE-4745-85EB-D55A28B102F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三、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保管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000" spc="-1" strike="noStrike">
                <a:solidFill>
                  <a:srgbClr val="003300"/>
                </a:solidFill>
                <a:latin typeface="標楷體"/>
                <a:ea typeface="標楷體"/>
              </a:rPr>
              <a:t>使用人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」工作職責如下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1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應確實負責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點收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新購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核對無誤後將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標籤黏貼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於財物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3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所保管財物資料須與保管組系統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資料相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4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財物使用前應先向單位財物管理人辦理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借用手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5.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妥善保管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及養護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6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損壞或遺失所保管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借用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之財物，應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負賠償責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7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配合單位財物管理人辦理不定期盤點及年度總</a:t>
            </a:r>
            <a:r>
              <a:rPr b="1" lang="zh-TW" sz="2800" spc="-1" strike="noStrike">
                <a:solidFill>
                  <a:srgbClr val="ff3300"/>
                </a:solidFill>
                <a:latin typeface="標楷體"/>
                <a:ea typeface="標楷體"/>
              </a:rPr>
              <a:t>盤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8.</a:t>
            </a:r>
            <a:r>
              <a:rPr b="1" lang="zh-TW" sz="2800" spc="-1" strike="noStrike">
                <a:solidFill>
                  <a:srgbClr val="000099"/>
                </a:solidFill>
                <a:latin typeface="標楷體"/>
                <a:ea typeface="標楷體"/>
              </a:rPr>
              <a:t>異動或離職前財物之移交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3EE1-D589-4464-A70B-575021E6EB4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保管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及「</a:t>
            </a:r>
            <a:r>
              <a:rPr b="1" lang="zh-TW" sz="3600" spc="-1" strike="noStrike">
                <a:solidFill>
                  <a:srgbClr val="ff3300"/>
                </a:solidFill>
                <a:latin typeface="標楷體"/>
                <a:ea typeface="標楷體"/>
              </a:rPr>
              <a:t>使用人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」對於財物均應善盡保管之責，未經核准不得私自移轉或借撥</a:t>
            </a:r>
            <a:r>
              <a:rPr b="1" lang="en-US" sz="3600" spc="-1" strike="noStrike">
                <a:solidFill>
                  <a:srgbClr val="008000"/>
                </a:solidFill>
                <a:latin typeface="標楷體"/>
                <a:ea typeface="標楷體"/>
              </a:rPr>
              <a:t>§7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538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※</a:t>
            </a:r>
            <a:r>
              <a:rPr b="1" lang="zh-TW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如離退職時免辦「離職單手續單」者不得擔任財物「保管人」</a:t>
            </a:r>
            <a:r>
              <a:rPr b="1" lang="en-US" sz="3600" spc="-1" strike="noStrike">
                <a:solidFill>
                  <a:srgbClr val="000099"/>
                </a:solidFill>
                <a:latin typeface="標楷體"/>
                <a:ea typeface="標楷體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9B49-6041-48DF-8A3D-035AC78A62A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四、離職、調職或退職者，應將所保管或使用之財物點交清楚，單位主管及單位財物管理人應確認完成移交手續，財物保管（使用）人於辦理離校手續時須經保管組核章。如有短缺而未賠償者，不發給離職證明文件，且追究賠償責任 </a:t>
            </a:r>
            <a:r>
              <a:rPr b="1" lang="en-US" sz="3200" spc="-1" strike="noStrike">
                <a:solidFill>
                  <a:srgbClr val="008000"/>
                </a:solidFill>
                <a:latin typeface="標楷體"/>
                <a:ea typeface="標楷體"/>
              </a:rPr>
              <a:t>§1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F96D-074E-4513-A5B1-DF6D7E412AB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五、財物保管（使用）人，對所經管之財物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應善盡保管之責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，未經核准，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不得私自移轉、借撥或另為處分收益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。財物若因災害、盜竊、不可抗力或其他意外事故，致毀損或滅失時，須依審計法施行細則規定，檢同有關證明文件，陳報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教育部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查明屬實，並轉請</a:t>
            </a:r>
            <a:r>
              <a:rPr b="1" lang="zh-TW" sz="3000" spc="-1" strike="noStrike">
                <a:solidFill>
                  <a:srgbClr val="ff5555"/>
                </a:solidFill>
                <a:latin typeface="標楷體"/>
                <a:ea typeface="標楷體"/>
              </a:rPr>
              <a:t>審計機關</a:t>
            </a:r>
            <a:r>
              <a:rPr b="1" lang="zh-TW" sz="3000" spc="-1" strike="noStrike">
                <a:solidFill>
                  <a:srgbClr val="000099"/>
                </a:solidFill>
                <a:latin typeface="標楷體"/>
                <a:ea typeface="標楷體"/>
              </a:rPr>
              <a:t>核准，核定已盡善良管理人應有之注意解除其責任者外，保管人、使用人應負連帶賠償責任 </a:t>
            </a:r>
            <a:r>
              <a:rPr b="1" lang="en-US" sz="3000" spc="-1" strike="noStrike">
                <a:solidFill>
                  <a:srgbClr val="008000"/>
                </a:solidFill>
                <a:latin typeface="標楷體"/>
                <a:ea typeface="標楷體"/>
              </a:rPr>
              <a:t>§12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2:59:26Z</dcterms:created>
  <dc:creator>user</dc:creator>
  <dc:description/>
  <cp:keywords/>
  <dc:language>en-US</dc:language>
  <cp:lastModifiedBy>user</cp:lastModifiedBy>
  <dcterms:modified xsi:type="dcterms:W3CDTF">2011-10-18T09:33:56Z</dcterms:modified>
  <cp:revision>90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28</vt:lpwstr>
  </property>
</Properties>
</file>