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861A-B0F2-4692-AD14-DA768B31AA2E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2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21A-C5F5-4FDE-B750-6C7274ED9085}" type="slidenum">
              <a:rPr b="0" lang="zh-TW" sz="12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FE9-24BD-4113-B271-BD28C9B5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4A9-3945-4451-83FB-9A62A79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0AE-8F28-4AE6-BC0E-77B38F06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AFA-8F3A-48D6-81B1-D84BF511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1F56-DE45-4CE5-8D94-4653D715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3C19-C95E-4487-9ECC-E33D1389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E334-3640-449C-A9D2-2BCDF48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1F8-F04D-4CEE-B9FD-C678B2EB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0F2-CF62-4B60-BBF5-97F4C05E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5423-9E9C-456A-88A0-47C7B8B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6F7-FBC7-413B-82DE-82EDD68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432-2FD2-4084-A206-9528439C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D9D-5003-4A81-BDBF-175FF74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B1CD-F096-498F-B6F3-DC65706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83D-DC36-47D4-B82A-1BDD1F9F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0BF-33C3-4DB2-88D2-FC10B238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16C1-1DA0-477F-B225-67EC030C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A31E-FF80-4B3F-9FC0-9FF7969C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5622-BB7F-40E1-AE49-FD22EEC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19A7-6A29-4121-81FE-9441B1F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D868-CDCA-43A0-A8B0-F64002AC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CA27-FCD9-4A12-B5E1-F985C8B9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0A3-A51F-4B69-BE99-09BD4D4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DCAB-CE56-4D04-AAB1-C8D9BEB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1557-8F41-4318-97AD-5085F16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184D-762D-4F31-8A08-9B8AFE64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84BE-5297-43F5-A4C5-DA8019C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1610-6F5D-426D-AE0A-094BF4A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9218-EDCE-4D60-8F6E-C406F24A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427F-D98F-4017-B7F7-E283BB5F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7E4-A0DF-4DE4-8D3A-F9DF9D03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1A6-F4CF-4FD2-9924-17F75E3C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A7D-75A1-4292-9D57-A9D06D6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E85-996B-4083-84E4-D4ECB4E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0CA-D54E-4B85-88DD-1800E8D9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090-BDF2-4A6A-B16D-17C618A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2DE-950A-4258-87A3-A3802FA22AF2}" type="datetime">
              <a: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115/0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EAEF-55E7-4C0A-AF4E-9A49EDE3C342}" type="slidenum">
              <a: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5F8-4685-4970-B97F-4BA038C68A99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B8D8-EEEB-41FD-BD7B-2E1686DE891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8C01-F5F9-4C6E-978C-BFAE8ECB2419}" type="datetime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3C5D-32EE-4E71-9DA4-4DA532538F72}" type="slidenum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sysu.edu.tw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投影片編號版面配置區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295C-7BB1-4F7E-AC25-288FAB9C305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財物管理及</a:t>
            </a:r>
            <a:br>
              <a:rPr sz="5400"/>
            </a:b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經費結報注意事項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1000" y="5300640"/>
            <a:ext cx="66420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總務處保管組  吳鴻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201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9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國立中山大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57160"/>
            <a:ext cx="7292880" cy="843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4360" y="206208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Times New Roman"/>
              </a:rPr>
              <a:t>強化內部控制措施宣導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59C-C3DA-4D59-8513-5A15EAC9734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單位財物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已達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使用年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不堪再使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時，應填具財物減損單送保管組，經陳報校長核定後，辦理財物報廢手續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在未奉核定處理前，應妥善保管，不得隨意廢棄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財物經核定報廢後，申請報廢財物之單位須將核准之報廢單及報廢品送保管組倉庫。經除帳後，廢品變賣依行政院頒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各機關奉准報廢財產之變賣及估價作業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程序」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辦理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6B5-85EB-4274-A566-D45604A895C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八、保管組應於每年初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擬訂盤點計劃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實施財物盤點，各單位須配合先行對所屬財物實施盤點，並將財物盤點結果紀錄表送回保管組。全校盤點結束後，將盤點結果及建議事項彙整，以書面陳報校長後通知各單位檢討改進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※</a:t>
            </a:r>
            <a:r>
              <a:rPr b="1" lang="zh-TW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財物盤點發現部分缺失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單位初盤不落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未粘貼標籤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保管人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存置地點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物無廠牌規格型號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產攜出校外（實驗或維修）未登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46F-6C59-4D09-9C9A-B044E93DFBB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國有財產法第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8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條：主管機關或管理機關對於公用財產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不得為任何處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擅為收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已列帳財物；以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貼補方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更換機型等，屬「處分」，依上開國有財產法規定，不得為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標楷體"/>
                <a:ea typeface="標楷體"/>
              </a:rPr>
              <a:t>貳、其他應注意事項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AD6C-4F5F-4051-9714-F7584D7E57B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6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二、整批購買，每件單價如未超過新台幣</a:t>
            </a: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者，不得以「財產」列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資本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財產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設備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執行率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攤銷折舊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問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冷氣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按裝施工管線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1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3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經常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非消耗品、耗材、維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0AF-CCE8-4DE0-92B0-B26D9F5E702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、各單位接受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捐贈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受贈單位簽請學校同意（檢附捐贈機構同意函） → 會簽保管組、會計室、秘書室後 → 保管組函陳報教育部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層轉財政部轉行政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回函指定本校為管理機關 → 財產保管單位再依函示填財產增加單 → 入帳管理（入本校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0EC-906C-4672-8F93-379ED7ED191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各單位財物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欲贈與校外機構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須經簽文加會相關單位（保管組、會計室）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後，並依規定程序點交 → 對方收受文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的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出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入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提供校外使（借）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其他異動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情形，請先通知保管組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始可同意辦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B9A-CE86-43D7-8412-4D289205EC7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財物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遭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處理程序：（財物如需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攜出校外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應先經報備核准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保留現場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通知校警隊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如有保險聯絡保險公司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失竊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現場拍照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遭破壞的部分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報案後索取三聯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填報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財物失竊報告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→ 保管組陳報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教育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陳轉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函請同意提前報廢 → 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審核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准予備查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/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或賠償及追究責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保管人有無「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盡到善良管理人應有之注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F10-BFC7-490F-94F6-FF18C39B5B4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軟體（屬無形資產），採購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財產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。金額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參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案件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非消耗品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57A-6E6C-4305-9FF3-358EF3B35B8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八、屬於電腦升級之採購，金額在新臺幣</a:t>
            </a:r>
            <a:r>
              <a:rPr b="1" lang="zh-TW" sz="36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以上之案件，財產增加單內補填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、註明原財產功能擴充或升級等字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BBB-7AFE-434C-BAC4-FABC4C68191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1680" y="155700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物管理規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其他應注意事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31800" y="549360"/>
            <a:ext cx="631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68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5555"/>
                </a:solidFill>
                <a:latin typeface="標楷體"/>
                <a:ea typeface="標楷體"/>
              </a:rPr>
              <a:t>簡 報 大 綱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C86-6276-4E9B-9542-A6410CCF39A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九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增加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非消耗品增加單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每一欄位務必詳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尤其中文品名、廠牌、型號、規格、地點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…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，以利辦理驗收、登帳及未來財產盤點。如採購項目多，為節省繕寫時間及避免造成錯誤，可將規格表影印縮小，貼在增加單上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   ◎</a:t>
            </a:r>
            <a:r>
              <a:rPr b="1" lang="zh-TW" sz="3200" spc="-1" strike="noStrike" u="sng">
                <a:solidFill>
                  <a:srgbClr val="008000"/>
                </a:solidFill>
                <a:uFillTx/>
                <a:latin typeface="Arial"/>
              </a:rPr>
              <a:t>財產卡（憑證）同身分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576D-848B-44C9-B14E-2488E56078A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、</a:t>
            </a:r>
            <a:r>
              <a:rPr b="1" lang="zh-TW" sz="36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動支經費申請單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未經核准請勿先行訂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收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。廠商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尚未完成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交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時，請勿辦理結報。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產入帳後又辦理退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A2F-3B41-44B1-A310-637049385DB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一、收銀機開立之統一發票，各單位結報時，請於發票上加註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（中文）之名稱，並簽名或蓋章。物品品名務必須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註明清單明細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含單價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俾利財物審核及財物登帳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電腦耗材一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3C9-1B7F-4968-A5E4-9B5FEE57DDE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二、各單位新購置之財物如屬維修、更換性質，請於「支出憑證單」用途欄，註明維修之該筆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，俾便保管組查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3467-AAF5-490D-9E90-AF10E9977FB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三、如確屬耗材或易碎或使用一次即耗損或使用年限未達二年，又單價在三千元以上者，請於「支出憑證單」用途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欄註明原因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作為保管組審核依據，若未註明者，保管組將認定為財產或非消耗品，恐與實際未符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註明：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---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耗材、消耗品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8FE-DBC4-4CF8-811C-2A5F4C5243A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四、財物之編號及使用年限係依據行政院頒「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物標準分類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之規定辦理，各單位應依規定辦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五、財產及非消耗品之分類標準認定請洽保管組，至於「經常門」或「資本門」經費支用請洽會計室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8537-17BE-48A7-9A3B-8EF82DCC044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六、為簡化結報作業流程，下列案件請與其他財物案件分開結報，可逕送總務處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毋須加會保管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以縮短作業流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旅運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旅費、運費、車票費、出差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事務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影印、打字、郵費、租金、稅捐、油脂、食品、禮品、花籃、喜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輓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幛、餐費、沖洗照片、報費、廣告費、規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酬勞費等案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68D8-24A0-49BA-B5E7-3EB53A10753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七、落實廢品入庫管制作業，請保管人於收到核准之「減損單」後，於指定期限內將廢品繳回入庫，減損單上會加註「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本減損單已列管，務請攜帶本單及可回收之廢品於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月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日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4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～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6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時點交入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廢品庫房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每月第一週週三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開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B577-89F3-4950-982B-285942BF474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八、請參閱保管組新網頁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2010/8/1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更新，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法規、作業規範、表單、流程、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Q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＆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A(38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項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) 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場管會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職務宿舍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二手財產網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7E37-06CF-4B31-9EA9-DE629DEDBD7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920" y="0"/>
            <a:ext cx="9172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90C-68A1-4236-A5EC-0DB42779A87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財物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係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總稱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（本校財物管理要點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包括土地、土地改良物、房屋建築及設備暨單價金額超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使用年限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機械及設備、交通及運輸設備、什項設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惟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圖書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典藏之分類圖書仍依有關規定辦理（圖書館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3200" spc="-1" strike="noStrike" u="sng">
                <a:solidFill>
                  <a:srgbClr val="007a77"/>
                </a:solidFill>
                <a:uFillTx/>
                <a:latin typeface="Arial"/>
              </a:rPr>
              <a:t>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物所有權屬中華民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Arial"/>
                <a:ea typeface="標楷體"/>
              </a:rPr>
              <a:t>壹、財物管理規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7351-F47B-4517-A092-8A2B24CF4A1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9966"/>
                </a:solidFill>
                <a:latin typeface="標楷體"/>
                <a:ea typeface="標楷體"/>
              </a:rPr>
              <a:t>簡報完畢 敬請指教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聯絡分機 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370;237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768-4600-4FA7-88EA-F16F5F6B314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不屬於前述財產之設備、用具，其分類如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消耗用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公用物品經使用後喪失其原有效能或使用價值者，如清潔用品、紙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非消耗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公用物品質料堅固，不易損耗者，即使用年限逹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單價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三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未達一萬元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07A-AC76-451F-BAF9-52AD5D64E28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、財物管理採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分層負責管理制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各單位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院、所、系、中心、處、館、室、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應負責所使用財物之增置、登記、經管、養護、減損等相關事宜。保管組負責全校財物登記、管理及折舊攤提相關事宜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293-4C11-4519-B3E9-C2C3468E998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三、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保管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使用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工作職責如下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應確實負責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點收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新購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核對無誤後將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標籤黏貼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於財物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所保管財物資料須與保管組系統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資料相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財物使用前應先向單位財物管理人辦理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借用手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妥善保管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養護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損壞或遺失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，應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負賠償責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配合單位財物管理人辦理不定期盤點及年度總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盤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8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異動或離職前財物之移交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F1C5-58A0-4687-A2F4-66643936AE4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保管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使用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對於財物均應善盡保管之責，未經核准不得私自移轉或借撥</a:t>
            </a:r>
            <a:r>
              <a:rPr b="1" lang="en-US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§7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如離退職時免辦「離職單手續單」者不得擔任財物「保管人」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2C6-23B5-491B-BD06-B6E0643D15A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離職、調職或退職者，應將所保管或使用之財物點交清楚，單位主管及單位財物管理人應確認完成移交手續，財物保管（使用）人於辦理離校手續時須經保管組核章。如有短缺而未賠償者，不發給離職證明文件，且追究賠償責任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DA6-8D46-429E-BC9E-37F612C8B7E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保管（使用）人，對所經管之財物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應善盡保管之責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，未經核准，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不得私自移轉、借撥或另為處分收益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。財物若因災害、盜竊、不可抗力或其他意外事故，致毀損或滅失時，須依審計法施行細則規定，檢同有關證明文件，陳報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查明屬實，並轉請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審計機關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核准，核定已盡善良管理人應有之注意解除其責任者外，保管人、使用人應負連帶賠償責任 </a:t>
            </a:r>
            <a:r>
              <a:rPr b="1" lang="en-US" sz="3000" spc="-1" strike="noStrike">
                <a:solidFill>
                  <a:srgbClr val="008000"/>
                </a:solidFill>
                <a:latin typeface="標楷體"/>
                <a:ea typeface="標楷體"/>
              </a:rPr>
              <a:t>§12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2:59:26Z</dcterms:created>
  <dc:creator>user</dc:creator>
  <dc:description/>
  <cp:keywords/>
  <dc:language>en-US</dc:language>
  <cp:lastModifiedBy>user</cp:lastModifiedBy>
  <dcterms:modified xsi:type="dcterms:W3CDTF">2011-10-18T09:33:56Z</dcterms:modified>
  <cp:revision>90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28</vt:lpwstr>
  </property>
</Properties>
</file>